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155FD-045D-4C45-95C0-104A901B6F81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9A89-F735-4A37-B252-ACF78A5F7144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99840" y="4343400"/>
            <a:ext cx="5438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692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AP 2.0 content provis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owing features are suppor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HTML MP - WML1.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CSS M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ML scri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Push (WS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Caching Model (partl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browser provisioning (OTA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All other features comply with WAP 1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816120" y="4216320"/>
            <a:ext cx="2611440" cy="347040"/>
            <a:chOff x="816120" y="4216320"/>
            <a:chExt cx="2611440" cy="347040"/>
          </a:xfrm>
        </p:grpSpPr>
        <p:sp>
          <p:nvSpPr>
            <p:cNvPr id="267" name=""/>
            <p:cNvSpPr/>
            <p:nvPr/>
          </p:nvSpPr>
          <p:spPr>
            <a:xfrm>
              <a:off x="816120" y="4216320"/>
              <a:ext cx="2611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876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816120" y="421632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16120" y="452124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692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Times New Roman"/>
              </a:rPr>
              <a:t>WAP 2.0 content provision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llowing features are support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tegrated fl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XHTML MP - WML1.3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CSS M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ML scrip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Push (WS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Caching Model (partl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AP 2.0 browser provisioning (OTAP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- All other features comply with WAP 1.2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816120" y="4216320"/>
            <a:ext cx="2611440" cy="347040"/>
            <a:chOff x="816120" y="4216320"/>
            <a:chExt cx="2611440" cy="347040"/>
          </a:xfrm>
        </p:grpSpPr>
        <p:sp>
          <p:nvSpPr>
            <p:cNvPr id="273" name=""/>
            <p:cNvSpPr/>
            <p:nvPr/>
          </p:nvSpPr>
          <p:spPr>
            <a:xfrm>
              <a:off x="816120" y="4216320"/>
              <a:ext cx="2611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876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816120" y="421632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816120" y="452124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6926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ore information available in the “AD Products” fol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mmunication is child’s play thanks to the attractive accessories, also excellent ARPU-driv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816120" y="4216320"/>
            <a:ext cx="2611440" cy="347040"/>
            <a:chOff x="816120" y="4216320"/>
            <a:chExt cx="2611440" cy="347040"/>
          </a:xfrm>
        </p:grpSpPr>
        <p:sp>
          <p:nvSpPr>
            <p:cNvPr id="279" name=""/>
            <p:cNvSpPr/>
            <p:nvPr/>
          </p:nvSpPr>
          <p:spPr>
            <a:xfrm>
              <a:off x="816120" y="4216320"/>
              <a:ext cx="2611440" cy="34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0" bIns="45360" anchor="t">
              <a:spAutoFit/>
            </a:bodyPr>
            <a:p>
              <a:pPr algn="ctr">
                <a:lnSpc>
                  <a:spcPts val="2373"/>
                </a:lnSpc>
                <a:spcBef>
                  <a:spcPts val="876"/>
                </a:spcBef>
                <a:tabLst>
                  <a:tab algn="l" pos="0"/>
                  <a:tab algn="l" pos="905040"/>
                  <a:tab algn="l" pos="1809720"/>
                  <a:tab algn="l" pos="2714760"/>
                  <a:tab algn="l" pos="3619440"/>
                  <a:tab algn="l" pos="4524480"/>
                  <a:tab algn="l" pos="5429160"/>
                  <a:tab algn="l" pos="6334200"/>
                  <a:tab algn="l" pos="7238880"/>
                  <a:tab algn="l" pos="8143920"/>
                  <a:tab algn="l" pos="9048600"/>
                  <a:tab algn="l" pos="9953640"/>
                  <a:tab algn="l" pos="10858680"/>
                </a:tabLst>
              </a:pPr>
              <a:r>
                <a:rPr b="0" lang="de-DE" sz="1400" spc="-1" strike="noStrike">
                  <a:solidFill>
                    <a:srgbClr val="000000"/>
                  </a:solidFill>
                  <a:latin typeface="Arial"/>
                </a:rPr>
                <a:t>STRICTLY CONFIDENTI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16120" y="421632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16120" y="4521240"/>
              <a:ext cx="253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90360" tIns="-45000" bIns="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BAE825-0459-4746-A274-AE028D496E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B0331-3BA1-4B1D-9467-4C9E6C4D53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B4F8-BE05-4BE9-B517-ACEF55CFEE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1C598-F248-42E2-B02D-49B6397EDF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2E2A1-AC7E-49F9-911D-741729B3EB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54340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2440" y="141264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140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54340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4672440" y="3649680"/>
            <a:ext cx="202752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EDA0E3-33E6-4344-AF77-1B7D6DAC97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CF806-CCE7-4012-96BD-57F2472F08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E35D-5F1D-4073-8452-18728BD15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12560" y="279360"/>
            <a:ext cx="6553080" cy="29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25E6D-DA8F-401D-A3CD-3D0324B9B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56CB5-3B4A-4341-B0A7-99559E6C6F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641040" y="364968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B25E4-2156-4399-A773-B3ADE06234F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1400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641040" y="1412640"/>
            <a:ext cx="307296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14000" y="3649680"/>
            <a:ext cx="6297480" cy="20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D1F73-E0A1-4FF7-B165-54F32DCCBF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2000" y="154080"/>
            <a:ext cx="881856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12560" y="279360"/>
            <a:ext cx="6553080" cy="62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14000" y="1412640"/>
            <a:ext cx="6297480" cy="42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792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35892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53820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717480" indent="-177840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089840" y="154080"/>
            <a:ext cx="92052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064360" y="154080"/>
            <a:ext cx="916200" cy="8809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1"/>
          </p:nvPr>
        </p:nvSpPr>
        <p:spPr>
          <a:xfrm>
            <a:off x="3619440" y="6568200"/>
            <a:ext cx="1905120" cy="13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Page </a:t>
            </a:r>
            <a:fld id="{B6D41A21-3CF5-450E-90BC-E7709414FBC1}" type="slidenum">
              <a:rPr b="0" lang="de-DE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00" y="154080"/>
            <a:ext cx="8818560" cy="26445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2000" y="2924280"/>
            <a:ext cx="8818560" cy="16383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329600" y="6156360"/>
            <a:ext cx="1673280" cy="57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 algn="ctr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8108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3" marL="36036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4" marL="539640" algn="ctr"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5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6" marL="539640"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12.gif"/><Relationship Id="rId3" Type="http://schemas.openxmlformats.org/officeDocument/2006/relationships/image" Target="../media/image13.jpeg"/><Relationship Id="rId4" Type="http://schemas.openxmlformats.org/officeDocument/2006/relationships/image" Target="../media/image14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5240" y="149400"/>
            <a:ext cx="8813520" cy="265428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12920" y="3050640"/>
            <a:ext cx="8318160" cy="100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emens Mobile Phones</a:t>
            </a:r>
            <a:br>
              <a:rPr sz="3200"/>
            </a:br>
            <a:r>
              <a:rPr b="1" lang="en-GB" sz="3200" spc="-1" strike="noStrike">
                <a:solidFill>
                  <a:srgbClr val="9e1d3e"/>
                </a:solidFill>
                <a:latin typeface="Arial"/>
              </a:rPr>
              <a:t>CFX65  Product details &amp; Inform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12920" y="4184280"/>
            <a:ext cx="8318160" cy="25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July 2004 Christoph Boeing &amp; Matthias Wiltink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85840" y="1125360"/>
            <a:ext cx="7022880" cy="49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hotop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hotopet is a cute character in the style of a Japanese Manga. He is hi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wner's constant companion and requires regular c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Photopet has various demands which must be fulfilled by his owner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owner performs these actions (e.g. feeding) by taking snapshots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se are analysed by the game engine which then decides what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magochi actually gets (e.g., for dinner)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ubble Bo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ubble Boost is a typical jump-and-run game with multiple graphic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nvironment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target of the game is for Luki to free his friends from their impriso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ok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obiloko is an Arcade dance game. The game takes full advantage of th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olyphonic music capabilities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aim of Mobiloko is to make 'Mani' dance to the ringtone melody an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keep him in time with the beat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is new version of Mobiloko also enables the users to use their ow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hotos as game backgroun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rcRect l="410" t="0" r="0" b="901"/>
          <a:stretch/>
        </p:blipFill>
        <p:spPr>
          <a:xfrm>
            <a:off x="7068960" y="1128600"/>
            <a:ext cx="1878120" cy="144648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rcRect l="1154" t="2245" r="0" b="0"/>
          <a:stretch/>
        </p:blipFill>
        <p:spPr>
          <a:xfrm>
            <a:off x="7094520" y="2611440"/>
            <a:ext cx="1846440" cy="14605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s – Gam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3"/>
          <a:srcRect l="0" t="0" r="0" b="610"/>
          <a:stretch/>
        </p:blipFill>
        <p:spPr>
          <a:xfrm>
            <a:off x="7095960" y="4108320"/>
            <a:ext cx="1847880" cy="15382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708C9-0F94-4119-BBF6-FAC7E16CEDC7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pected problems &amp; Customer inquiries &amp; Latest new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28760" y="1125360"/>
            <a:ext cx="8288280" cy="56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ustomers might complain about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low and bad log on present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GSM noise during call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LCM qualit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very slow scrolling through menu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ything else is not possible to speculate about as we have to wait for a (final) customer 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What else might be interesting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he first really ‘useful’ software version is 4.024 but still with several bugs </a:t>
            </a:r>
            <a:r>
              <a:rPr b="0" lang="en-GB" sz="15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Actual Software is 4.027 - all other software versions may deny incoming calls and have several other mainly severe bug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ll Centre Monitor Version 1.07 will be implemented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minute of torch mode reduces standby time about 35 minut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9e1d3e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attery have to be almost full to perform a software update. Otherwise the update does not start and no mes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9103F-A271-41DC-A877-D6DF6DB56AC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>
            <a:hlinkClick r:id="rId1" action="ppaction://hlinksldjump"/>
          </p:cNvPr>
          <p:cNvSpPr/>
          <p:nvPr/>
        </p:nvSpPr>
        <p:spPr>
          <a:xfrm>
            <a:off x="25092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2" action="ppaction://hlinksldjump"/>
          </p:cNvPr>
          <p:cNvSpPr/>
          <p:nvPr/>
        </p:nvSpPr>
        <p:spPr>
          <a:xfrm>
            <a:off x="25236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3" action="ppaction://hlinksldjump"/>
          </p:cNvPr>
          <p:cNvSpPr/>
          <p:nvPr/>
        </p:nvSpPr>
        <p:spPr>
          <a:xfrm>
            <a:off x="25236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4" action="ppaction://hlinksldjump"/>
          </p:cNvPr>
          <p:cNvSpPr/>
          <p:nvPr/>
        </p:nvSpPr>
        <p:spPr>
          <a:xfrm>
            <a:off x="4645080" y="184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645080" y="328464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645080" y="4797360"/>
            <a:ext cx="2519280" cy="863640"/>
          </a:xfrm>
          <a:prstGeom prst="ellipse">
            <a:avLst/>
          </a:prstGeom>
          <a:gradFill rotWithShape="0">
            <a:gsLst>
              <a:gs pos="0">
                <a:srgbClr val="99ccff"/>
              </a:gs>
              <a:gs pos="50000">
                <a:srgbClr val="ffffff"/>
              </a:gs>
              <a:gs pos="100000">
                <a:srgbClr val="99ccff"/>
              </a:gs>
            </a:gsLst>
            <a:lin ang="5400000"/>
          </a:gradFill>
          <a:ln cap="rnd" w="3240">
            <a:solidFill>
              <a:srgbClr val="99cc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pPr algn="ctr"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152280"/>
            <a:ext cx="91728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064360" y="15228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2943360" y="1579680"/>
            <a:ext cx="1701720" cy="4378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4E82B-F88C-4FBD-B7C4-B7FC7E2E05C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2475000" y="1163520"/>
            <a:ext cx="1879560" cy="23878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7102440" y="1163520"/>
            <a:ext cx="1879560" cy="23878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162000" y="1163520"/>
            <a:ext cx="1879560" cy="23878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788000" y="1160640"/>
            <a:ext cx="1879560" cy="2387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316240" y="3733920"/>
            <a:ext cx="4135320" cy="26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743040" indent="-28584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egrated LED flash &amp; tor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Integrated VGA camer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ull MMS and messaging capabiliti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65k internal colour displa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lyphonic ring tones with 40 chord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hameleon colour effec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938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CD5C76-8890-4C22-9061-5E1F8ED5115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414360" y="1947960"/>
            <a:ext cx="302256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Young, fashionable desig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tylish colour &amp; material fini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lamshell form with antenna loop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Best value for mone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4360" y="4344840"/>
            <a:ext cx="3022560" cy="83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Full range of photo functionalities: Photo editor / messaging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Sound: 40 cho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am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200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14000" y="1413000"/>
            <a:ext cx="636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62000" y="356076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88080" y="3807000"/>
            <a:ext cx="1145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959440" y="5024520"/>
            <a:ext cx="2782800" cy="6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Car Kit Eas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Attachable fla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07080" y="1165320"/>
            <a:ext cx="3274920" cy="72216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9000" y="1413000"/>
            <a:ext cx="1069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07080" y="424008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959440" y="1947960"/>
            <a:ext cx="3022560" cy="146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VGA Camer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Integrated LED flash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Display: 65k colors, CSTN (160 x 128) &amp; subdisplay (96 x 64), s/w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Extensive Messaging</a:t>
            </a:r>
            <a:br>
              <a:rPr sz="1300"/>
            </a:b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SMS, EMS, MMS, IM, E-mail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100000"/>
              </a:lnSpc>
              <a:spcBef>
                <a:spcPts val="162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GPRS Class 10, WAP 2.0, Java, Ir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4479840"/>
            <a:ext cx="968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ccesso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705120" y="1251000"/>
            <a:ext cx="1717920" cy="4798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AFFD7-73F0-4394-8988-A06CC946957E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743120" y="5443560"/>
            <a:ext cx="14576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amp-up Colour: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hameleo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725440" y="5443560"/>
            <a:ext cx="13204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econd Colour: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lue Pearl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l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38320" y="1276200"/>
            <a:ext cx="2949480" cy="41277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5057640" y="1276200"/>
            <a:ext cx="2949840" cy="41277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2906C-5B7B-4652-B965-D11FD15C722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34920" y="113976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-56160" y="1387440"/>
            <a:ext cx="1557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rd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80000" y="1139760"/>
            <a:ext cx="3274920" cy="7225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88560" y="1387440"/>
            <a:ext cx="1492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562200" y="1471680"/>
            <a:ext cx="1711440" cy="47815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14360" y="1876320"/>
            <a:ext cx="3022560" cy="46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Weight/Volume/Dimen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8 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78cm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85 x48 x23 [mm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xcl loop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97 x48 x23 [mm]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cl. loop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tandby / Talk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Up to 200 h / 200 min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amera &amp; integrated flas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ed VGA came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ilt-in photo flash L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ED flash can be used as to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Display &amp; Key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. display: 65k colours, 160x128 pixel – ext. display: 96x64 pix b/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oundchip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40 ch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i-Ion 600 mA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59440" y="1876320"/>
            <a:ext cx="3022560" cy="25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Mess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MS rel. 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-mail (POP3)</a:t>
            </a:r>
            <a:br>
              <a:rPr sz="1400"/>
            </a:b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Internet &amp; Connectiv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al-b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r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PRS class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AP 2.0, Java MIDP 2.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89B59-028F-4FFE-B7B2-AF5D3E3667B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16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631880" y="1165320"/>
            <a:ext cx="14684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100320" y="1165320"/>
            <a:ext cx="14716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41880" y="1165320"/>
            <a:ext cx="147024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512120" y="1165320"/>
            <a:ext cx="1469880" cy="78876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62000" y="208296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9600" y="2185920"/>
            <a:ext cx="84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xtile Cas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CT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31880" y="2082960"/>
            <a:ext cx="14684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55640" y="2095560"/>
            <a:ext cx="14446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-Ion Batter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00 mA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BA-67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100320" y="2082960"/>
            <a:ext cx="14716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24520" y="2185920"/>
            <a:ext cx="1250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6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572000" y="2082960"/>
            <a:ext cx="146988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97440" y="2185920"/>
            <a:ext cx="849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Easy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6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524720" y="20829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73920" y="2185920"/>
            <a:ext cx="76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631880" y="2654280"/>
            <a:ext cx="1468440" cy="57168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875240" y="2757600"/>
            <a:ext cx="1018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vel Charger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TC-500/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00320" y="2654280"/>
            <a:ext cx="1471680" cy="57168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530160" y="2757600"/>
            <a:ext cx="62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265428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914720" y="2757600"/>
            <a:ext cx="808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pgrade Kit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O-6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524720" y="32259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72120" y="3328920"/>
            <a:ext cx="76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631880" y="3225960"/>
            <a:ext cx="1468440" cy="57132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94960" y="3328920"/>
            <a:ext cx="11804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C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31880" y="3797280"/>
            <a:ext cx="1468440" cy="57168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948320" y="3990960"/>
            <a:ext cx="84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 Char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54840" y="2095560"/>
            <a:ext cx="1469880" cy="571320"/>
          </a:xfrm>
          <a:prstGeom prst="rect">
            <a:avLst/>
          </a:prstGeom>
          <a:solidFill>
            <a:srgbClr val="afc2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521040" y="2185920"/>
            <a:ext cx="528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lash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FL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3797280"/>
            <a:ext cx="1469880" cy="57168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45480" y="3900600"/>
            <a:ext cx="8175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yncSt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SC-6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72000" y="32259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89440" y="3328920"/>
            <a:ext cx="1079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 Kit Portable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KP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100320" y="3225960"/>
            <a:ext cx="14716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350880" y="3328920"/>
            <a:ext cx="9867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eadset Basic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HS-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631880" y="4368960"/>
            <a:ext cx="1468440" cy="57132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826640" y="4562640"/>
            <a:ext cx="1098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esk Top St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81560" y="4892760"/>
            <a:ext cx="250920" cy="147600"/>
          </a:xfrm>
          <a:prstGeom prst="rect">
            <a:avLst/>
          </a:prstGeom>
          <a:solidFill>
            <a:srgbClr val="ffffff"/>
          </a:solidFill>
          <a:ln w="28440">
            <a:solidFill>
              <a:srgbClr val="9e1d3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436080" y="4883400"/>
            <a:ext cx="1372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Supports Phone Stor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81560" y="5108400"/>
            <a:ext cx="250920" cy="14796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96120" y="5099400"/>
            <a:ext cx="22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ducts compatible with 55 series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181560" y="5326200"/>
            <a:ext cx="250920" cy="147600"/>
          </a:xfrm>
          <a:prstGeom prst="rect">
            <a:avLst/>
          </a:prstGeom>
          <a:solidFill>
            <a:srgbClr val="afc2c8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96120" y="5316840"/>
            <a:ext cx="2221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Products compatible with 65 series*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181560" y="5556240"/>
            <a:ext cx="250920" cy="147600"/>
          </a:xfrm>
          <a:prstGeom prst="rect">
            <a:avLst/>
          </a:prstGeom>
          <a:solidFill>
            <a:srgbClr val="62646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66320" y="5547240"/>
            <a:ext cx="802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For bulk only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432480" y="5794920"/>
            <a:ext cx="1495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Arial"/>
              </a:rPr>
              <a:t>* Backwards compatibl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2660760"/>
            <a:ext cx="1469880" cy="571320"/>
          </a:xfrm>
          <a:prstGeom prst="rect">
            <a:avLst/>
          </a:prstGeom>
          <a:solidFill>
            <a:srgbClr val="87b8e5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697160" y="2763720"/>
            <a:ext cx="11224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 Cable USB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CA-5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Access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8640" y="1284120"/>
            <a:ext cx="14169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Fashion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&amp; Carr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699920" y="1398600"/>
            <a:ext cx="1333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Energ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026520" y="1284120"/>
            <a:ext cx="162108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Handsfree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Portab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00880" y="1284120"/>
            <a:ext cx="121104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Car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8320" y="1284120"/>
            <a:ext cx="119592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Multi-</a:t>
            </a:r>
            <a:br>
              <a:rPr sz="1500"/>
            </a:b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1640" y="1398600"/>
            <a:ext cx="1229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Offic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C4695-7EAB-434B-9BF8-DF70AF2AF130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24000" y="1125360"/>
            <a:ext cx="6984720" cy="504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Purestyl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Headset with a high-value design for mobile handsfree usag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offers an optimised wearing comfort by holder and earpiece hinge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Charger Plu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Take it easy – fixed small housing to connect phone and heads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It allows charging and phoning at the same time!</a:t>
            </a:r>
            <a:br>
              <a:rPr sz="1500"/>
            </a:b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yncSt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Be up to date – link your mobile phone to a PC with the Data Cable USB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d synchronise your data or transfer multimedia applica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ttachable Flas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Share moments in all lighting conditions, for example, at a party or in 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disco ... Indoor or low-light photo quality is greatly improved with an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ttachable flash.</a:t>
            </a:r>
            <a:br>
              <a:rPr sz="1500"/>
            </a:b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ar Kit Easy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•"/>
              <a:tabLst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The Car Kit Easy allows convenient handsfree talking with high speech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quality by simply connecting the unit to the cigarette lighter socket (12V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179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500" spc="-1" strike="noStrike">
                <a:solidFill>
                  <a:srgbClr val="000000"/>
                </a:solidFill>
                <a:latin typeface="Arial"/>
              </a:rPr>
              <a:t>and inserting the mobile phone in the integrated holder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1"/>
          <a:srcRect l="4960" t="0" r="4268" b="0"/>
          <a:stretch/>
        </p:blipFill>
        <p:spPr>
          <a:xfrm>
            <a:off x="7396200" y="1413000"/>
            <a:ext cx="1177920" cy="266364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iginal Access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6997680" y="4437000"/>
          <a:ext cx="1652760" cy="136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997680" y="4437000"/>
                    <a:ext cx="1652760" cy="136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146DA-C5D5-4054-A2A8-E15A0D09DDA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1197000"/>
            <a:ext cx="6299280" cy="379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ersonalis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MS pictures, Ringtones, etc.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t of Themes/Download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Community &amp; City Lif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Instant Messaging Client (Wireless Village)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ultimedi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oto Edito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Unit Converter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Fun &amp; Entertain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obiloko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Photope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ubble Boos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Chat Client: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79280" indent="-177840">
              <a:lnSpc>
                <a:spcPct val="75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ased on Instant Messaging Cli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575560" y="0"/>
            <a:ext cx="568440" cy="56664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219240"/>
            <a:ext cx="6987960" cy="473040"/>
          </a:xfrm>
          <a:prstGeom prst="rect">
            <a:avLst/>
          </a:prstGeom>
          <a:gradFill rotWithShape="0">
            <a:gsLst>
              <a:gs pos="0">
                <a:srgbClr val="000075">
                  <a:alpha val="40000"/>
                </a:srgbClr>
              </a:gs>
              <a:gs pos="50000">
                <a:srgbClr val="0000ff">
                  <a:alpha val="10196"/>
                </a:srgbClr>
              </a:gs>
              <a:gs pos="100000">
                <a:srgbClr val="000075">
                  <a:alpha val="40000"/>
                </a:srgbClr>
              </a:gs>
            </a:gsLst>
            <a:lin ang="5400000"/>
          </a:gradFill>
          <a:ln w="6480">
            <a:solidFill>
              <a:srgbClr val="99ccff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44000" rIns="108000" tIns="3600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710244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864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74080" y="162000"/>
            <a:ext cx="917640" cy="882720"/>
          </a:xfrm>
          <a:prstGeom prst="rect">
            <a:avLst/>
          </a:prstGeom>
          <a:solidFill>
            <a:srgbClr val="9e1d3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0" bIns="54000" anchor="b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FX6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585280" y="9360"/>
            <a:ext cx="568080" cy="567000"/>
          </a:xfrm>
          <a:custGeom>
            <a:avLst/>
            <a:gdLst/>
            <a:ahLst/>
            <a:rect l="l" t="t" r="r" b="b"/>
            <a:pathLst>
              <a:path w="318" h="317">
                <a:moveTo>
                  <a:pt x="0" y="0"/>
                </a:moveTo>
                <a:lnTo>
                  <a:pt x="318" y="0"/>
                </a:lnTo>
                <a:lnTo>
                  <a:pt x="318" y="31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08800" y="1109520"/>
            <a:ext cx="1457280" cy="1152720"/>
          </a:xfrm>
          <a:prstGeom prst="rect">
            <a:avLst/>
          </a:prstGeom>
          <a:ln w="0">
            <a:noFill/>
          </a:ln>
        </p:spPr>
      </p:pic>
      <p:pic>
        <p:nvPicPr>
          <p:cNvPr id="239" name="afterpos3_import2" descr=""/>
          <p:cNvPicPr/>
          <p:nvPr/>
        </p:nvPicPr>
        <p:blipFill>
          <a:blip r:embed="rId3"/>
          <a:stretch/>
        </p:blipFill>
        <p:spPr>
          <a:xfrm>
            <a:off x="7281720" y="1719360"/>
            <a:ext cx="1455840" cy="11541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rcRect l="0" t="0" r="0" b="610"/>
          <a:stretch/>
        </p:blipFill>
        <p:spPr>
          <a:xfrm>
            <a:off x="5610240" y="2828880"/>
            <a:ext cx="1455840" cy="115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"/>
          <p:cNvGraphicFramePr/>
          <p:nvPr/>
        </p:nvGraphicFramePr>
        <p:xfrm>
          <a:off x="7253280" y="3281400"/>
          <a:ext cx="1398600" cy="1338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253280" y="3281400"/>
                    <a:ext cx="13986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"/>
          <p:cNvSpPr/>
          <p:nvPr/>
        </p:nvSpPr>
        <p:spPr>
          <a:xfrm>
            <a:off x="8339040" y="585792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10800"/>
                </a:moveTo>
                <a:lnTo>
                  <a:pt x="35790" y="3794"/>
                </a:lnTo>
                <a:lnTo>
                  <a:pt x="35790" y="17806"/>
                </a:lnTo>
                <a:close/>
              </a:path>
            </a:pathLst>
          </a:custGeom>
          <a:solidFill>
            <a:srgbClr val="42677f">
              <a:alpha val="40000"/>
            </a:srgbClr>
          </a:solidFill>
          <a:ln cap="rnd" w="6480">
            <a:solidFill>
              <a:srgbClr val="42677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9000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B6C43F-656C-4560-9225-A4A3F861DA5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2T19:24:48Z</dcterms:created>
  <dc:creator>Oliver Girke</dc:creator>
  <dc:description/>
  <dc:language>en-US</dc:language>
  <cp:lastModifiedBy> </cp:lastModifiedBy>
  <cp:lastPrinted>2004-02-23T20:18:27Z</cp:lastPrinted>
  <dcterms:modified xsi:type="dcterms:W3CDTF">2004-07-22T11:20:16Z</dcterms:modified>
  <cp:revision>315</cp:revision>
  <dc:subject/>
  <dc:title>PowerPoint Presentation</dc:title>
</cp:coreProperties>
</file>